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FD1-FB76-4270-9E22-7E09047C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61C-D9EE-4539-BDF9-5DCD2E2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53D-811E-46B5-90EA-1519AA3D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DEA-4991-4B71-A8A6-BD59C5C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F0-1E71-4947-9959-B96A123D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46E-DC87-44BF-8DFC-7576D6D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E13-AE83-4AD6-B807-CC0E404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9E3-7673-4A5D-98DD-BD1EDC1E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1AD-9295-45DB-AFE8-781E6D2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340-14E7-409C-82AB-5B1D2EF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C64-53CB-4930-A729-973E02E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093-946C-4B17-9AC4-F5F885A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6253-C5EB-4EB1-989A-C466A5BC4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01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7461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Экстримизм и патриот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12046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12045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716078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9715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flowers-pic330-330x220-17297"/>
          <p:cNvPicPr/>
          <p:nvPr/>
        </p:nvPicPr>
        <p:blipFill>
          <a:blip r:embed="rId1"/>
          <a:stretch/>
        </p:blipFill>
        <p:spPr>
          <a:xfrm>
            <a:off x="39600" y="39600"/>
            <a:ext cx="9104400" cy="6818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Теракт в Волгограде 21.10.2013: обнародовано видео с видеорегистратора (ВИДЕ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50920" y="404640"/>
            <a:ext cx="65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акт в Волгограде 21 октября - дело рук смерт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808adf10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Террористка-смертница взорвала автобус в Волгоград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20482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12048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12047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120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12046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2:44:18Z</dcterms:created>
  <dc:creator>Русский</dc:creator>
  <dc:description/>
  <dc:language>en-US</dc:language>
  <cp:lastModifiedBy>sch10-17</cp:lastModifiedBy>
  <dcterms:modified xsi:type="dcterms:W3CDTF">2025-09-15T04:28:02Z</dcterms:modified>
  <cp:revision>7</cp:revision>
  <dc:subject/>
  <dc:title>Слайд 1</dc:title>
</cp:coreProperties>
</file>